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9.png" ContentType="image/png"/>
  <Override PartName="/ppt/media/image18.jpeg" ContentType="image/jpeg"/>
  <Override PartName="/ppt/media/image6.wmf" ContentType="image/x-wmf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62EE-B488-48E2-8346-73BE687CD999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DAB-5824-46D4-ADA9-439E4C8E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C384-B49C-4C64-87B1-34BDC639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285-7099-4440-A0CA-C011687F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FBE2-B5AF-414C-811C-67CF9325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FF23-612B-41CA-B78E-2BCA3AE5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B658-0C08-4AD2-9023-4056B2D5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B857-8F36-4BE0-A6EB-19016BCD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E4E8-4B55-4740-AC1F-C4687978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34B3-1A39-4E44-828D-4D5E46F1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2800-F9F9-40D3-83D4-017F080E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C6FE-4A1A-4B5A-81C8-330B08C0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E2F5-A404-437A-9523-5D1369A8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3EE4-2A45-4E0D-8863-711E4C3E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18EF-153D-4A31-89B6-E3976465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A04B-611B-47D1-B32F-DEBBB057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A4EA-A3CE-40C2-AFB1-0C7F1057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6BE6-56E3-4D0E-92FA-A2403227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E2E1A-B112-406F-AD32-C0529507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C7A1D-29E0-4886-8FB3-0A17D9FA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667CA-3665-498F-AD19-DBE45F96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B1A4B-45C5-4B80-9E99-7CFBDF2C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C0A17-8CB8-4BAC-8908-2266724D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D28B-9F98-48C0-9854-5E32EA75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9BBC2-F83D-4047-97CB-5ABB2A96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DC785-7714-4301-A24F-D0C83841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BEB7D-DED6-44C6-907D-96672629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3CA00-09B7-4079-8224-23DE1357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EDE4B-F952-4FED-85D1-30DFC5CD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AA7E5-62E2-4C17-9456-6591077A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81D5F-0179-46D8-93AD-A75022C5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32391-F2FB-48A5-8CB0-4733C16B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099A8-B1EA-43C8-BA3E-7431CB9F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7E514-A9FD-463F-B2BD-F8C39EA7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32F-C178-4E9C-B30C-8691004C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48C23-7B15-4BB2-8699-063C4170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32726-CFEA-48EB-99D6-56B41A28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E5718-CCB7-4641-9E56-EB93292E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12AB1-8BCD-42D2-9BB7-0C44A747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31E65-C8A8-46A8-A5CA-ECC99AF0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6208D-5B81-4047-BADB-FD7BF3AB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480E5-222D-4581-A2DA-7567872C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C64AB-569D-4A88-91B0-7B98C4EF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7C7F6-7818-4367-9CDA-B10D30A5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E80A-D7B5-4BE5-B8FC-F654C43A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216-BCB6-402C-A048-E0FBA12F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6443-86E4-42EC-9EB9-4367F09F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D510-8B7E-4A03-A032-B6DA787B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179-44CE-4955-8D1B-596AB123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4413-059F-4651-AF5B-D30F1AC87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F5CF-3235-41C7-96DF-863DD15CA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894D-275F-4A16-AAA8-4571C7033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172A-E0B5-4018-8A0C-66519062F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                             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14000" y="6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1268280"/>
            <a:ext cx="89154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178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184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194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05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14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22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uevos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, 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, Páprika, Alcachofa sin espi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 – Anís, Linaza (Curahuas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, Artesa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5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9" dur="500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21:33:27Z</dcterms:modified>
  <cp:revision>1159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1216244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